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A8A7-307B-4248-A549-821169429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E29EE-669C-472E-8BFA-F8B742AF06E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09BB-6010-4967-B2B6-9BC14B9A02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EAE2-4AF8-4D94-B65A-59F383BCD7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9915-0343-418A-BF87-F1EE143D2AC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088AB-24F3-4612-ABD5-4EA5EB56504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EF43-C37F-448C-9049-1C1408E7FF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849-F138-4ED3-AE1A-CE52819827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ED50-6A9C-4463-B1C2-C284451CBE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52FF-FF99-4B80-AEE6-6003582B13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4CEE-AC6C-48F4-BC76-79973BCDBE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8C64-EB07-4BD0-AE48-97CAB9F026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3A3A-E5FC-4797-846A-15931827FEA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50A9-B059-421D-9617-57C2050FD00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C257-7C56-4FAD-8DD9-03F6AFED071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AB4B-4142-4498-BEDB-964DDB94F4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FB0F-8899-4558-91DC-40D2104B37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2360-B5BA-4A99-A0CB-7BC724B709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27B8F-DDA8-441E-9B37-A8BA8F885F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A813-4DB4-4209-B5BE-132757CEEE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4083-731A-49AC-B982-1FC3B12592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C69F-D914-407A-9125-8ABD1E637C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3727-6475-4B17-8A85-136276F2EAB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E147-9DD3-431A-9CAC-F5607AD15F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90167-30C0-4083-BD3C-EEB1ADAF2E0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1987-88A9-4224-ADF3-53BB10F240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3F79-6623-4362-9358-57D59D62B9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E7E4-C2FE-409B-ABE2-8CD22D2D1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FC6-80A5-4A6D-B1FB-6449FA09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0170-1C24-4AF3-8072-947C84EC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2C7A-99F9-4BD2-B0F7-BC4869DD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6C9-9605-42BE-9C13-57CD8BA4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8481-EF03-4396-9093-762E6405F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E07A-9BE5-4125-93C8-00B00E10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E4AA-14EF-4AF9-A2EE-DF48175C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0F31-DAA3-496B-841A-90105DA9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21D6-C3EE-40D2-9727-C0527C00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C33C-DA2E-46A1-ADAC-4A70D509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0001-FB50-4FDB-9970-4E011629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13BDF-BC16-4832-A24C-F2ED1C8E31C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9.xml"/><Relationship Id="rId11" Type="http://schemas.openxmlformats.org/officeDocument/2006/relationships/slide" Target="slide21.xml"/><Relationship Id="rId12" Type="http://schemas.openxmlformats.org/officeDocument/2006/relationships/slide" Target="slide2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audio" Target="../media/5th%20Grader%20Shor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4" descr="5thGrader"/>
          <p:cNvPicPr/>
          <p:nvPr/>
        </p:nvPicPr>
        <p:blipFill>
          <a:blip r:embed="rId1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5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6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6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AutoShape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500"/>
            </a:gs>
            <a:gs pos="50000">
              <a:srgbClr val="408000"/>
            </a:gs>
            <a:gs pos="100000">
              <a:srgbClr val="03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AutoShape 6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utoShape 7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8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utoShape 9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AutoShape 10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utoShape 11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AutoShape 12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13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14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15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22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3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24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25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26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28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29">
            <a:hlinkClick r:id="rId21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5thGrader"/>
          <p:cNvPicPr/>
          <p:nvPr/>
        </p:nvPicPr>
        <p:blipFill>
          <a:blip r:embed="rId1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AutoShape 7">
            <a:hlinkClick r:id="rId1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utoShape 6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6">
            <a:hlinkClick r:id="rId2" action="ppaction://hlinksldjump"/>
          </p:cNvPr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44280 w 1218960"/>
              <a:gd name="textAreaRight" fmla="*/ 1174680 w 12189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6984" y="1400"/>
                </a:lnTo>
                <a:lnTo>
                  <a:pt x="1400" y="14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6984" y="20200"/>
                </a:lnTo>
                <a:lnTo>
                  <a:pt x="36984" y="14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984" y="202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Owner</cp:lastModifiedBy>
  <dcterms:modified xsi:type="dcterms:W3CDTF">2010-02-18T05:00:27Z</dcterms:modified>
  <cp:revision>21</cp:revision>
  <dc:subject/>
  <dc:title>Are You Smarter  Than a 5th Grader?</dc:title>
</cp:coreProperties>
</file>